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DFF-62BC-475A-8478-1ACCA094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632-CF0E-4C73-AAC0-39A85587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576-E5CF-45B9-8C88-EF3E9365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F68-A8EB-4079-9C19-313E2FCB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E0E-E567-4E90-8B8C-3778A8C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650-EC2D-4F59-90A4-FECC50E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02E0-2C93-4F42-BB49-557CD21F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C83-9CB2-42CC-BD7E-613F21F4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68C5-D2E0-462A-BD93-BFD78C08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E80-D833-47B1-B130-CEA8E196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263-828F-43EB-9C89-F48D7C52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B79-94A2-41AF-BB8E-0D54A49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74E0-58B1-4310-A7D6-8B7BD53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E440-3320-49A8-9944-C74F861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7DE-44D9-4A96-984D-73DDFDB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4F6-FCC6-4331-88B1-35420AD3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32CD-3C52-4258-B06A-BB09C386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441-0722-4C9E-982F-88A8390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D2F-75C1-457C-AB91-F726179C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6B8-E8A0-43EB-ADFA-16218DA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397-3136-4CF9-8C9D-C9DC65C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285-CC2F-4743-B380-B79FE61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8A2-0220-415D-9AFF-40733E2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750-127A-43CB-9CCB-E84A015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AE1-A7C6-4973-958C-0004EF3E0D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03C-4A0B-4B84-8B4F-AF0DDE36D42D}" type="slidenum"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ing Toolbar Review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91404" r="46299" b="5258"/>
          <a:stretch/>
        </p:blipFill>
        <p:spPr>
          <a:xfrm>
            <a:off x="457200" y="3886200"/>
            <a:ext cx="83059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3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colors of lines and borders of 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36503" t="91448" r="60253" b="5914"/>
          <a:stretch/>
        </p:blipFill>
        <p:spPr>
          <a:xfrm>
            <a:off x="1600200" y="464832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s, connectors, basic shapes, block arrows, flowchart, stars &amp; banners, callouts, more auto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utoSh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6417" t="91448" r="87087" b="6181"/>
          <a:stretch/>
        </p:blipFill>
        <p:spPr>
          <a:xfrm>
            <a:off x="1600200" y="487692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457200" y="632304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 the thickness of line and borders of shap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2388" t="91448" r="55266" b="6247"/>
          <a:stretch/>
        </p:blipFill>
        <p:spPr>
          <a:xfrm>
            <a:off x="1600200" y="403848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59436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Brings up Clip Art Gallery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 Clip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8999" t="91448" r="68835" b="5914"/>
          <a:stretch/>
        </p:blipFill>
        <p:spPr>
          <a:xfrm>
            <a:off x="1676520" y="4114800"/>
            <a:ext cx="747720" cy="560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53352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3-D style of objec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3-D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50502" t="91448" r="46335" b="5914"/>
          <a:stretch/>
        </p:blipFill>
        <p:spPr>
          <a:xfrm>
            <a:off x="1600200" y="411480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a straight lin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3360" t="91448" r="85003" b="6094"/>
          <a:stretch/>
        </p:blipFill>
        <p:spPr>
          <a:xfrm>
            <a:off x="1600200" y="4038480"/>
            <a:ext cx="1204920" cy="90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152280" y="61722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color of font (typing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ont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9751" t="91448" r="57602" b="5914"/>
          <a:stretch/>
        </p:blipFill>
        <p:spPr>
          <a:xfrm>
            <a:off x="1752480" y="3581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rder, nudge, align, rotate, flip, text wrapping, etc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91448" r="95669" b="6334"/>
          <a:stretch/>
        </p:blipFill>
        <p:spPr>
          <a:xfrm>
            <a:off x="1600200" y="44197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625644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s a picture/image from fil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sert Pi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1168" t="91448" r="66670" b="5914"/>
          <a:stretch/>
        </p:blipFill>
        <p:spPr>
          <a:xfrm>
            <a:off x="1676520" y="3962520"/>
            <a:ext cx="900000" cy="674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58672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arrow style on lines and arrow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rrow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6490" t="91448" r="51667" b="6247"/>
          <a:stretch/>
        </p:blipFill>
        <p:spPr>
          <a:xfrm>
            <a:off x="1676520" y="411480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01992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13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an arrow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085" t="91448" r="82838" b="5914"/>
          <a:stretch/>
        </p:blipFill>
        <p:spPr>
          <a:xfrm>
            <a:off x="1676520" y="3962520"/>
            <a:ext cx="1128600" cy="84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24852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Ke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8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key do you use with the rectangle and oval tool to receive squares and circl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Numbe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different arrow styles are available f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47053" t="78247" r="45091" b="15308"/>
          <a:stretch/>
        </p:blipFill>
        <p:spPr>
          <a:xfrm>
            <a:off x="1447920" y="4572000"/>
            <a:ext cx="990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Selecting a Group of Object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65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want to select several objects all at once in order to move them, how would you do th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Ctrl key to select all the object and use your arrow keys (or mouse) to move the group of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You can use your mouse to box all objects and they will become selected t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57200"/>
            <a:ext cx="38124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57200"/>
            <a:ext cx="4572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380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s ovals &amp; circl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9334" t="91448" r="78740" b="6247"/>
          <a:stretch/>
        </p:blipFill>
        <p:spPr>
          <a:xfrm>
            <a:off x="1600200" y="3962520"/>
            <a:ext cx="1281240" cy="960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1722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 dash style of line and borders of shap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ash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44242" t="91448" r="53350" b="6247"/>
          <a:stretch/>
        </p:blipFill>
        <p:spPr>
          <a:xfrm>
            <a:off x="1676520" y="4419720"/>
            <a:ext cx="976320" cy="731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624852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raw rectangles &amp; squar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7165" t="91448" r="80669" b="5888"/>
          <a:stretch/>
        </p:blipFill>
        <p:spPr>
          <a:xfrm>
            <a:off x="1676520" y="3505320"/>
            <a:ext cx="1280880" cy="96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228600" y="609588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reates a textbox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ext Bo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1499" t="91448" r="76896" b="5914"/>
          <a:stretch/>
        </p:blipFill>
        <p:spPr>
          <a:xfrm>
            <a:off x="1676520" y="3962520"/>
            <a:ext cx="1052280" cy="78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59436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reates a WordAr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Word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5312" t="91448" r="73169" b="6247"/>
          <a:stretch/>
        </p:blipFill>
        <p:spPr>
          <a:xfrm>
            <a:off x="1676520" y="4038480"/>
            <a:ext cx="823680" cy="6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09588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hanges shadow on text and objects; can also open shadow setting toolbar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Shadow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48337" t="91448" r="49501" b="6150"/>
          <a:stretch/>
        </p:blipFill>
        <p:spPr>
          <a:xfrm>
            <a:off x="1676520" y="4419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80880" y="6172200"/>
            <a:ext cx="822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ame that Tool &amp;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raw the Shortcu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ills color of a shap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ill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33333" t="91448" r="63501" b="5914"/>
          <a:stretch/>
        </p:blipFill>
        <p:spPr>
          <a:xfrm>
            <a:off x="1600200" y="4038480"/>
            <a:ext cx="900000" cy="67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91448" r="46335" b="5223"/>
          <a:stretch/>
        </p:blipFill>
        <p:spPr>
          <a:xfrm>
            <a:off x="304920" y="5943600"/>
            <a:ext cx="8226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14:28Z</dcterms:created>
  <dc:creator>wiesel</dc:creator>
  <dc:description/>
  <dc:language>en-US</dc:language>
  <cp:lastModifiedBy>wiesel</cp:lastModifiedBy>
  <dcterms:modified xsi:type="dcterms:W3CDTF">2010-12-02T16:33:10Z</dcterms:modified>
  <cp:revision>8</cp:revision>
  <dc:subject/>
  <dc:title>Slide 1</dc:title>
</cp:coreProperties>
</file>